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D24-E714-4E32-93B4-5E1D1724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F40-17FA-475C-BD6F-9F199BEA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275-2E4A-4C90-961C-781688E9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D30-8528-4DD8-87C3-4479E08E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FF4-3248-460E-8D5F-3E06DA78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749-09B2-46A9-9287-70D3D530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F58-277E-4423-A392-63CF04BC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C91-DFE1-4377-8FB0-F02A489D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F5D-5EF5-471D-AFB1-FA650932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C1C-D43C-4B92-B244-426CFBF4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903-2A03-4FEC-92E6-75765BE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BB4-2508-4846-B1D8-B9A677EE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A360-098F-4C4C-9A91-2D18C1C81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 – Flow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882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 – Flow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25780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2 – Comparison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4100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 - Bra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35120"/>
            <a:ext cx="8153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5 – Basic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847880"/>
            <a:ext cx="5638680" cy="364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83440" y="2133720"/>
            <a:ext cx="2403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5 – Complex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2480" y="1425600"/>
            <a:ext cx="56390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7:45:04Z</dcterms:created>
  <dc:creator>MCPASD</dc:creator>
  <dc:description/>
  <dc:language>en-US</dc:language>
  <cp:lastModifiedBy>MCPASD</cp:lastModifiedBy>
  <dcterms:modified xsi:type="dcterms:W3CDTF">2011-10-10T17:45:12Z</dcterms:modified>
  <cp:revision>1</cp:revision>
  <dc:subject/>
  <dc:title>Example #1 – Flow Chart</dc:title>
</cp:coreProperties>
</file>